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CDD-E9E1-4A2F-8315-E2ADE358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1F2-02F2-40D1-970D-D0A387EA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475-452A-44EE-A2B3-439E3E68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10E-7855-4F4E-BF2D-D029BE15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ED3-E184-4754-B4A9-786A2AE3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5E5-2367-45A2-B0C3-C5A5EDE4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56A-2EFB-498C-85D4-FC957572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108-F8BB-4B68-AD7F-FE964493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E31-9731-416B-A233-FDB8BF5D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04F-31E8-43FD-A0D4-06E208CD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A18-2C69-460E-BCA2-F07C704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2BE-3DD4-4181-8C0F-7827F816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3055-395A-4641-AE9A-043AD5DE185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84000" y="2136240"/>
            <a:ext cx="6940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Myriad Pro"/>
              </a:rPr>
              <a:t>Η επιχείρηση ενισχύθηκε για</a:t>
            </a:r>
            <a:r>
              <a:rPr b="1" lang="el-GR" sz="20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el-GR" sz="2000" spc="-1" strike="noStrike">
                <a:solidFill>
                  <a:srgbClr val="808080"/>
                </a:solidFill>
                <a:latin typeface="Myriad Pro"/>
              </a:rPr>
              <a:t>τον εκσυγχρονισμό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Myriad Pro"/>
              </a:rPr>
              <a:t>στο πλαίσιο του Επιχειρησιακού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Myriad Pro"/>
              </a:rPr>
              <a:t>«Ανταγωνιστικότητα και Επιχειρηματικότητα» (ΕΠΑΝ Ι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333399"/>
                </a:solidFill>
                <a:latin typeface="Myriad Pro"/>
              </a:rPr>
              <a:t>Με τη συγχρηματοδότηση της Ελλάδας και της Ευρωπαϊκής Ένω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ellas_Flag"/>
          <p:cNvPicPr/>
          <p:nvPr/>
        </p:nvPicPr>
        <p:blipFill>
          <a:blip r:embed="rId1"/>
          <a:stretch/>
        </p:blipFill>
        <p:spPr>
          <a:xfrm>
            <a:off x="450720" y="725400"/>
            <a:ext cx="1116000" cy="74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EPAN-LOGOS FINALPLAGIO"/>
          <p:cNvPicPr/>
          <p:nvPr/>
        </p:nvPicPr>
        <p:blipFill>
          <a:blip r:embed="rId2"/>
          <a:stretch/>
        </p:blipFill>
        <p:spPr>
          <a:xfrm>
            <a:off x="5127480" y="720720"/>
            <a:ext cx="1568520" cy="75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jaune"/>
          <p:cNvPicPr/>
          <p:nvPr/>
        </p:nvPicPr>
        <p:blipFill>
          <a:blip r:embed="rId3"/>
          <a:stretch/>
        </p:blipFill>
        <p:spPr>
          <a:xfrm>
            <a:off x="453960" y="5292720"/>
            <a:ext cx="1265400" cy="858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5186520" y="5372280"/>
            <a:ext cx="34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333399"/>
                </a:solidFill>
                <a:latin typeface="Myriad Pro"/>
              </a:rPr>
              <a:t>η περιφέρεια στο</a:t>
            </a:r>
            <a:r>
              <a:rPr b="1" lang="el-GR" sz="1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el-GR" sz="1800" spc="-1" strike="noStrike">
                <a:solidFill>
                  <a:srgbClr val="ff9900"/>
                </a:solidFill>
                <a:latin typeface="Myriad Pro"/>
              </a:rPr>
              <a:t>επίκεντρο</a:t>
            </a:r>
            <a:r>
              <a:rPr b="1" lang="el-GR" sz="1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el-GR" sz="1800" spc="-1" strike="noStrike">
                <a:solidFill>
                  <a:srgbClr val="333399"/>
                </a:solidFill>
                <a:latin typeface="Myriad Pro"/>
              </a:rPr>
              <a:t>της ανάπτυξ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719360" y="5276880"/>
            <a:ext cx="18414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33399"/>
                </a:solidFill>
                <a:latin typeface="Myriad Pro"/>
              </a:rPr>
              <a:t>Ευρωπαϊκή Ένωσ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333399"/>
                </a:solidFill>
                <a:latin typeface="Myriad Pro"/>
              </a:rPr>
              <a:t>Ευρωπαϊκό Ταμείο</a:t>
            </a:r>
            <a:r>
              <a:rPr b="1" lang="en-US" sz="1000" spc="-1" strike="noStrike">
                <a:solidFill>
                  <a:srgbClr val="333399"/>
                </a:solidFill>
                <a:latin typeface="Myriad Pro"/>
              </a:rPr>
              <a:t> </a:t>
            </a:r>
            <a:r>
              <a:rPr b="1" lang="el-GR" sz="1000" spc="-1" strike="noStrike">
                <a:solidFill>
                  <a:srgbClr val="333399"/>
                </a:solidFill>
                <a:latin typeface="Myriad Pro"/>
              </a:rPr>
              <a:t>Περιφερειακής Ανάπτυξη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logo_espa"/>
          <p:cNvPicPr/>
          <p:nvPr/>
        </p:nvPicPr>
        <p:blipFill>
          <a:blip r:embed="rId4"/>
          <a:stretch/>
        </p:blipFill>
        <p:spPr>
          <a:xfrm>
            <a:off x="7445520" y="690480"/>
            <a:ext cx="1419120" cy="92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lina.EFEPAE\Desktop\ΛΟΓΟΤΥΠΑ\logo_YPYNT_FEB 2015_new 1_el 2.jpg"/>
          <p:cNvPicPr/>
          <p:nvPr/>
        </p:nvPicPr>
        <p:blipFill>
          <a:blip r:embed="rId5"/>
          <a:stretch/>
        </p:blipFill>
        <p:spPr>
          <a:xfrm>
            <a:off x="1889280" y="592200"/>
            <a:ext cx="308448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673280" y="2039760"/>
            <a:ext cx="687240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Myriad Pro"/>
              </a:rPr>
              <a:t>Η επιχείρηση ενισχύθηκε για</a:t>
            </a:r>
            <a:r>
              <a:rPr b="1" lang="el-GR" sz="20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el-GR" sz="2000" spc="-1" strike="noStrike">
                <a:solidFill>
                  <a:srgbClr val="808080"/>
                </a:solidFill>
                <a:latin typeface="Myriad Pro"/>
              </a:rPr>
              <a:t>τον εκσυγχρονισμό τ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Myriad Pro"/>
              </a:rPr>
              <a:t>στο πλαίσιο του Περιφερειακού Επιχειρησιακο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3399"/>
                </a:solidFill>
                <a:latin typeface="Myriad Pro"/>
              </a:rPr>
              <a:t>Προγράμματος </a:t>
            </a:r>
            <a:r>
              <a:rPr b="1" lang="el-GR" sz="2000" spc="-1" strike="noStrike">
                <a:solidFill>
                  <a:srgbClr val="808080"/>
                </a:solidFill>
                <a:latin typeface="Myriad Pro"/>
              </a:rPr>
              <a:t>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333399"/>
                </a:solidFill>
                <a:latin typeface="Myriad Pro"/>
              </a:rPr>
              <a:t>Με τη συγχρηματοδότηση της Ελλάδας και της Ευρωπαϊκής Ένω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ellas_Flag"/>
          <p:cNvPicPr/>
          <p:nvPr/>
        </p:nvPicPr>
        <p:blipFill>
          <a:blip r:embed="rId1"/>
          <a:stretch/>
        </p:blipFill>
        <p:spPr>
          <a:xfrm>
            <a:off x="431640" y="735120"/>
            <a:ext cx="1231920" cy="82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logo_espa"/>
          <p:cNvPicPr/>
          <p:nvPr/>
        </p:nvPicPr>
        <p:blipFill>
          <a:blip r:embed="rId2"/>
          <a:stretch/>
        </p:blipFill>
        <p:spPr>
          <a:xfrm>
            <a:off x="7143840" y="663480"/>
            <a:ext cx="16430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aune"/>
          <p:cNvPicPr/>
          <p:nvPr/>
        </p:nvPicPr>
        <p:blipFill>
          <a:blip r:embed="rId3"/>
          <a:stretch/>
        </p:blipFill>
        <p:spPr>
          <a:xfrm>
            <a:off x="455760" y="5205240"/>
            <a:ext cx="1265040" cy="858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5437080" y="5429160"/>
            <a:ext cx="30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9900"/>
                </a:solidFill>
                <a:latin typeface="Myriad Pro"/>
              </a:rPr>
              <a:t>ποιότητα ζωής για όλ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logo_espa"/>
          <p:cNvPicPr/>
          <p:nvPr/>
        </p:nvPicPr>
        <p:blipFill>
          <a:blip r:embed="rId4"/>
          <a:stretch/>
        </p:blipFill>
        <p:spPr>
          <a:xfrm>
            <a:off x="7086600" y="641520"/>
            <a:ext cx="1643040" cy="106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4"/>
          <p:cNvSpPr/>
          <p:nvPr/>
        </p:nvSpPr>
        <p:spPr>
          <a:xfrm>
            <a:off x="1728720" y="5218200"/>
            <a:ext cx="18414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333399"/>
                </a:solidFill>
                <a:latin typeface="Myriad Pro"/>
              </a:rPr>
              <a:t>Ευρωπαϊκή Ένωσ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333399"/>
                </a:solidFill>
                <a:latin typeface="Myriad Pro"/>
              </a:rPr>
              <a:t>Ευρωπαϊκό Ταμείο</a:t>
            </a:r>
            <a:r>
              <a:rPr b="1" lang="en-US" sz="1000" spc="-1" strike="noStrike">
                <a:solidFill>
                  <a:srgbClr val="333399"/>
                </a:solidFill>
                <a:latin typeface="Myriad Pro"/>
              </a:rPr>
              <a:t> </a:t>
            </a:r>
            <a:r>
              <a:rPr b="1" lang="el-GR" sz="1000" spc="-1" strike="noStrike">
                <a:solidFill>
                  <a:srgbClr val="333399"/>
                </a:solidFill>
                <a:latin typeface="Myriad Pro"/>
              </a:rPr>
              <a:t>Περιφερειακής Ανάπτυξη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lina.EFEPAE\Desktop\ΛΟΓΟΤΥΠΑ\logo_YPYNT_FEB 2015_new 1_el 2.jpg"/>
          <p:cNvPicPr/>
          <p:nvPr/>
        </p:nvPicPr>
        <p:blipFill>
          <a:blip r:embed="rId5"/>
          <a:stretch/>
        </p:blipFill>
        <p:spPr>
          <a:xfrm>
            <a:off x="2903400" y="542880"/>
            <a:ext cx="333720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2:13:17Z</dcterms:created>
  <dc:creator>User Of</dc:creator>
  <dc:description/>
  <dc:language>en-US</dc:language>
  <cp:lastModifiedBy>lina</cp:lastModifiedBy>
  <dcterms:modified xsi:type="dcterms:W3CDTF">2015-10-07T07:14:33Z</dcterms:modified>
  <cp:revision>9</cp:revision>
  <dc:subject/>
  <dc:title>Slide 1</dc:title>
</cp:coreProperties>
</file>